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61E-BA61-4F50-B27F-15BE41FE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E90-DEBF-4711-8E8A-5B7A65B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BBC-8BCA-423D-AD38-901E451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6EE-0D05-4478-9543-2D4F23B5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031-686C-4B41-BC10-E7FCFF3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F69-11ED-4887-856B-2C6C942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98C-96FE-40F9-8DD2-56FA68E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06C-29C2-4412-AC31-6A86B72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742-C35E-40EE-9530-EB153EA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C41-F392-49DD-AF78-CBA052C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E39-26F6-4E1C-A2BC-B406DCB5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D2A-D88D-42D6-82D5-56159B3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3F4-326E-4D91-9F41-A64F64D95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         Clase 8im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3 de enero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Siempre haces tus t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y and match the oppos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en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erm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 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.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.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. abur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sa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. regresar, 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.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. 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labras afirmativas y nega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9160" y="4648320"/>
            <a:ext cx="1363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4648320"/>
            <a:ext cx="10220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5840" y="4495680"/>
            <a:ext cx="120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1880" y="4419720"/>
            <a:ext cx="9565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3240" y="5410080"/>
            <a:ext cx="96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7840" y="5791320"/>
            <a:ext cx="8132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8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35268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3-01-03T19:33:07Z</dcterms:modified>
  <cp:revision>5</cp:revision>
  <dc:subject/>
  <dc:title>Me llamo ___________          Clase 8im La fecha es el 18 de diciembre del 2012</dc:title>
</cp:coreProperties>
</file>